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0A2-3475-4D37-8C2C-C0FF72AD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AD3-B560-47EA-9C20-5C00729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29F-B0BD-4918-97A1-F76D9F8C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581-D24D-4DD8-B90E-6E49850F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623-B67E-469A-B984-E6A910ED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9CF2-3396-4FCB-8ADC-C965FC1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CDD0-AC8F-4BD8-8A10-DBF0C6D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DDFF-0659-4E01-BA15-359DB986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64BC-75EB-42C9-A3C9-2C0764B1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74E3-A2A1-45B6-89D2-0B744452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B2AF-647F-44AA-9966-D257792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39F-7704-415F-AA69-0DF7674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D835-CC26-40B8-AB37-7AA09AC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76B-503D-4018-8913-2AB8309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1F4-946F-414E-A685-60CCB4A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F50-DE35-49A6-86C1-6744EDB4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2DA-3E25-4B28-A74B-FF27D3B1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ECC-E043-45F6-AB99-5D84388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A48-D044-429E-9AE9-043733BE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16C-4EE4-4009-AB7B-B52E93F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C18-67F1-4CF3-BC11-258847FD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89E-A49C-45BF-B02A-BFAB393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FF5-8FF2-45C4-9D99-128A94F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10C-114C-4C98-84DB-D4E0737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DB6-FBEB-41B3-BEAF-276B005FBF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62A-3DBE-4082-B4E7-64DAD48B73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te l'actualité nationale  et international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461960"/>
          <a:ext cx="80773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nt puis-je obtenir de plus amples renseignements sur les sujets les plus intéressa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22T15:36:11Z</dcterms:modified>
  <cp:revision>23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